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2090-2ED7-4D26-B4CB-D0762C409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C8A6-EDC2-409C-8491-2307D01DE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5B5-C0A1-411C-A7B6-31A12080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1D2-6EF2-42D8-8A57-2CBED87E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1A0-7D10-4632-B0C0-16945D34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57C3-729E-4AB5-A9BE-1374A36E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F70-908E-48A3-98DD-C9F66512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070-AD50-4FEB-BC42-8A3A8A36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D7F-EADB-4B5E-B2D6-DB0A2B11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974-9A87-4ABA-B4B6-D4021439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07D-7EB2-4A8A-87BA-935FDE06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02A-05BD-413A-AB33-26B838AB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435-1D6D-4962-830B-CFD0FB62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097-4820-4174-8D00-F16B6539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C0F0-6C2C-461C-88DB-C41864EF9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pyright.gov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C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OPYRIGHT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AND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F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AIR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U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640" y="4565160"/>
            <a:ext cx="66088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A B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IRD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L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IVES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H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ERE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-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OPYRIGH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Something is copyrighted if it is fixed in a tangible form of express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Don't infringe copyrigh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Get permission from the owner of the copyright to avoid infring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For more information on copyrights ask you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eacher...or go to 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copyright.gov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AIR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U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When a copyright term ends it is put into the public domain and is fair u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Fair use is when anyone can use material in the public domain freely without worry about copyrigh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You can use .gov websites as fair use for getting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pictures...like this one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an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NASA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641680" y="4978440"/>
            <a:ext cx="28702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T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HE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E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N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Danielle Di Fabio</cp:lastModifiedBy>
  <dcterms:modified xsi:type="dcterms:W3CDTF">2010-05-18T04:03:04Z</dcterms:modified>
  <cp:revision>1</cp:revision>
  <dc:subject/>
  <dc:title>PowerPoint Presentation</dc:title>
</cp:coreProperties>
</file>